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C79F-8B00-4FAA-8674-73098D1553A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have several points, steps, or key ideas use multiple slides.  Determine if your audience is to understand a new idea, learn a process, or receive greater depth to a familiar concept.  Back up each point with adequate explanation. As appropriate, supplement your presentation with technical support data in hard copy or on disc, e-mail, or the Internet.  Develop each point adequately to communicate with your audi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BE6D-A0B2-490D-933C-B8A29D6C6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F2C3-DEED-4D2D-87A7-B075417D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4073-4F21-4EC0-90B4-A4A5D4104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BCDB-F3B9-4E49-987A-9F050F263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75CD-9CC0-4265-A96D-C99D60F65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22BD-A432-48A9-8BCC-FFFCDE27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814A-EA7A-46C7-B4CF-B719FC94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6674-DDFE-4D9F-84F9-AFA3139C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014B-8409-46CB-A8B3-53B73B70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4D16-E169-4E0F-818C-F4A3D9D7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76EB-7A70-4673-BFE4-4E18D7FC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1408-561A-4992-8CF4-046193CE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F7D6-E2F1-4AB4-AD11-0228EDE1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6FD2-5458-48D0-BE99-E9F287D9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CEE5-23F4-4339-94EE-99DC3415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D7EF-091E-45B1-8E01-D529374C1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FD09-473F-41FC-B37F-FBE0A0129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5FC8-97E9-49A1-AD11-BD98DCB3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C8A4-23E1-4548-B863-EBDCDCCE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0C5D-8C89-4978-AF66-133A0EAC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2BDD-B142-44B9-8390-58EB66E8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68E7-DD63-497C-9280-CAF709DE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C133-BBF2-4518-886C-D4CDEE82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5E10-64A1-4D0B-A4DE-68604E5A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4477-4A57-4309-A850-88D42F3C48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D6E4-DE2F-4B20-AE63-52AB13CD02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localhost:8080/ekp/nd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Overview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e-click launch of appl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uto-install fea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versioning/caching feature for update/fast startu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some API for desktop appl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ndle a JNLP-deployed application in a Web Archive (WAR) fil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686800" cy="4438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Architectur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915840"/>
            <a:ext cx="8458200" cy="60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jnlp spec="1.0+" codebase=</a:t>
            </a:r>
            <a:r>
              <a:rPr b="0" lang="en-US" sz="1400" spc="-1" strike="noStrike" u="sng">
                <a:solidFill>
                  <a:srgbClr val="ff6600"/>
                </a:solidFill>
                <a:uFillTx/>
                <a:latin typeface="Courier New"/>
                <a:hlinkClick r:id="rId1"/>
              </a:rPr>
              <a:t>http://localhost:8080/ekp/nd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href="http://localhost:8080/ekp/nd/test.jnlp"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informa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title&gt;JWS test&lt;/titl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vendor&gt;Netdimensions&lt;/vendo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homepage href="http://www.netdimensions.com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description&gt;Test&lt;/descrip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icon href="http://www.netdimensions.com/netd_images/logo.jpg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offline-allowed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informa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securit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securit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resources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j2se version="1.3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jar href="http://localhost:8080/ekp/nd/test.jar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resources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application-desc main-class="test.test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jnlp&gt;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Example of descriptor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Extra Tag useful in descriptor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ine extra 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ication-desc main-clas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Main"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   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arg1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   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arg2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ication-des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ine VM 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2se versio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1.3"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itial-heap-siz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64m"/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property name="..." value=".."/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4495680"/>
            <a:ext cx="7543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ttp://carfield:8080/ekp/nd/test.jnl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Auto Install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ly For Windows platfor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OBJECT CODEBASE="</a:t>
            </a:r>
            <a:r>
              <a:rPr b="1" lang="en-US" sz="1600" spc="-1" strike="noStrike">
                <a:solidFill>
                  <a:srgbClr val="f1b60f"/>
                </a:solidFill>
                <a:latin typeface="Courier New"/>
              </a:rPr>
              <a:t>http://java.sun.com/products/javawebstart/autodl/jinstall-1_4_1-windows-i586.cab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" CLASSID="</a:t>
            </a:r>
            <a:r>
              <a:rPr b="1" lang="en-US" sz="1600" spc="-1" strike="noStrike">
                <a:solidFill>
                  <a:srgbClr val="f1b60f"/>
                </a:solidFill>
                <a:latin typeface="Courier New"/>
              </a:rPr>
              <a:t>clsid:5852F5ED-8BF4-11D4-A245-0080C6F74284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" HEIGHT=0 WIDTH=0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&lt;PARAM NAME="app" VALUE="http://carfield:8080/ekp/nd/test.jnlp"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PARAM NAME="back" VALUE="true"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!-- Alternate HTML for browsers which cannot instantiate the object --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A HREF="http://java.sun.com/cgi-bin/javawebstart-platform.sh?"&gt;Download Java Web Start&lt;/A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/OBJEC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place CODEBASE for complete JRE insta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: http://carfield:8080/ekp/nd/test1.ht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Java Web Start API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icService, which provides a service similar to the AppletCon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wnloadService, which allows an application to interact with the JNLP Client to check if application resources are available locally, and to request them to be downloa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allow un-trust client execute system 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eOpen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eSave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pboard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t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Service, key base persistence store like cook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nsionInstallerService, which provides an interface for extension installers to communicate with the JNLP Cli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Other Featur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ble to access system resource using code sign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che the jar in hard-dis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ckaging JNLP Applications in a Web Arch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ersioning support:</a:t>
            </a:r>
            <a:br>
              <a:rPr sz="30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jar href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="http://www.mysite.com/b.jar"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ersion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="2.3+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06:37:15Z</dcterms:created>
  <dc:creator>carfield</dc:creator>
  <dc:description/>
  <dc:language>en-US</dc:language>
  <cp:lastModifiedBy>Netdimensions</cp:lastModifiedBy>
  <dcterms:modified xsi:type="dcterms:W3CDTF">2003-04-03T08:19:49Z</dcterms:modified>
  <cp:revision>5</cp:revision>
  <dc:subject/>
  <dc:title>Java Web Start</dc:title>
</cp:coreProperties>
</file>